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EA69B-B430-4AC6-AF31-E260F4770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4C075-32FC-46C8-85F3-3A3DD2981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9F1B8-601C-48F7-B803-A57FF567A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E078C-9206-4648-8733-504D52F9E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95333-49E5-4534-AA2B-E66B923FA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F5698-A24F-452F-AAD6-BF5AD72BF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24B72-A564-4BE2-B9D6-774DF0C80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3CEF3-B554-407E-9C09-7B2DB0E27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E9D9A-1A93-4529-AE99-5CFC75A39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34027-C5BA-41B2-88C4-8386C0160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A29C8-99AA-4DC4-A59E-27A5AE32A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D9BFC-9C3C-46FC-9DE9-7AB520157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E1F4-9526-4C76-9D60-A11A22ACD3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Broadway"/>
              </a:rPr>
              <a:t>Who is the Student with Special Nee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1143000" y="1905120"/>
            <a:ext cx="6781680" cy="4381560"/>
          </a:xfrm>
          <a:prstGeom prst="rect">
            <a:avLst/>
          </a:prstGeom>
          <a:ln w="0">
            <a:noFill/>
          </a:ln>
        </p:spPr>
      </p:pic>
      <p:sp>
        <p:nvSpPr>
          <p:cNvPr id="44" name=""/>
          <p:cNvSpPr/>
          <p:nvPr/>
        </p:nvSpPr>
        <p:spPr>
          <a:xfrm>
            <a:off x="2057400" y="6248520"/>
            <a:ext cx="533412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Chancery"/>
              </a:rPr>
              <a:t>© 2009   Todd A. Mor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Chancery"/>
              </a:rPr>
              <a:t>Use with permission only</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Mentally Disabled</a:t>
            </a:r>
            <a:endParaRPr b="0" lang="en-US" sz="4400" spc="-1" strike="noStrike">
              <a:solidFill>
                <a:srgbClr val="000000"/>
              </a:solidFill>
              <a:latin typeface="Arial"/>
            </a:endParaRPr>
          </a:p>
        </p:txBody>
      </p:sp>
      <p:sp>
        <p:nvSpPr>
          <p:cNvPr id="65" name="PlaceHolder 2"/>
          <p:cNvSpPr>
            <a:spLocks noGrp="1"/>
          </p:cNvSpPr>
          <p:nvPr>
            <p:ph/>
          </p:nvPr>
        </p:nvSpPr>
        <p:spPr>
          <a:xfrm>
            <a:off x="456840" y="1371240"/>
            <a:ext cx="4343400" cy="525780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gnificantly below average cognitive &amp; motor abiliti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y learning, remembering, problem solv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ort attention spa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or selective attenti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mited ability to make choices</a:t>
            </a:r>
            <a:endParaRPr b="0" lang="en-US" sz="2800" spc="-1" strike="noStrike">
              <a:solidFill>
                <a:srgbClr val="000000"/>
              </a:solidFill>
              <a:latin typeface="Arial"/>
            </a:endParaRPr>
          </a:p>
        </p:txBody>
      </p:sp>
      <p:pic>
        <p:nvPicPr>
          <p:cNvPr id="66" name="" descr=""/>
          <p:cNvPicPr/>
          <p:nvPr/>
        </p:nvPicPr>
        <p:blipFill>
          <a:blip r:embed="rId1"/>
          <a:stretch/>
        </p:blipFill>
        <p:spPr>
          <a:xfrm>
            <a:off x="5715000" y="1295280"/>
            <a:ext cx="2724120" cy="2971800"/>
          </a:xfrm>
          <a:prstGeom prst="rect">
            <a:avLst/>
          </a:prstGeom>
          <a:ln w="0">
            <a:noFill/>
          </a:ln>
        </p:spPr>
      </p:pic>
      <p:pic>
        <p:nvPicPr>
          <p:cNvPr id="67" name="" descr=""/>
          <p:cNvPicPr/>
          <p:nvPr/>
        </p:nvPicPr>
        <p:blipFill>
          <a:blip r:embed="rId2"/>
          <a:stretch/>
        </p:blipFill>
        <p:spPr>
          <a:xfrm>
            <a:off x="4952880" y="4500720"/>
            <a:ext cx="3429000" cy="2357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69" name="PlaceHolder 2"/>
          <p:cNvSpPr>
            <a:spLocks noGrp="1"/>
          </p:cNvSpPr>
          <p:nvPr>
            <p:ph/>
          </p:nvPr>
        </p:nvSpPr>
        <p:spPr>
          <a:xfrm>
            <a:off x="457200" y="1143000"/>
            <a:ext cx="8229600" cy="55627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shorter work period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concrete tasks, structured instruc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more frequent reinforcement/behavior modifica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nds-on teaching methods and material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t student’s atten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simple direc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k student to repeat direc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monstrate &amp; model while giving direc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ew new vocabulary</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eak tasks down to simple step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least complex languag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responsibility within abil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Specific Learning Disability</a:t>
            </a:r>
            <a:endParaRPr b="0" lang="en-US" sz="4400" spc="-1" strike="noStrike">
              <a:solidFill>
                <a:srgbClr val="000000"/>
              </a:solidFill>
              <a:latin typeface="Arial"/>
            </a:endParaRPr>
          </a:p>
        </p:txBody>
      </p:sp>
      <p:sp>
        <p:nvSpPr>
          <p:cNvPr id="71" name="PlaceHolder 2"/>
          <p:cNvSpPr>
            <a:spLocks noGrp="1"/>
          </p:cNvSpPr>
          <p:nvPr>
            <p:ph/>
          </p:nvPr>
        </p:nvSpPr>
        <p:spPr>
          <a:xfrm>
            <a:off x="151920" y="1295280"/>
            <a:ext cx="4953240" cy="51055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A: “</a:t>
            </a:r>
            <a:r>
              <a:rPr b="0" i="1" lang="en-US" sz="2400" spc="-1" strike="noStrike">
                <a:solidFill>
                  <a:srgbClr val="333399"/>
                </a:solidFill>
                <a:latin typeface="Arial"/>
              </a:rPr>
              <a:t>one or more basic psychological processes involved in understanding or in using languag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fficulty listening, speaking, reading, writing, spelling, mathematic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in normal intelligence range (discrepancy between intelligence and ability)</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y have overlapping proble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5867280" y="1219320"/>
            <a:ext cx="3152880" cy="2476440"/>
          </a:xfrm>
          <a:prstGeom prst="rect">
            <a:avLst/>
          </a:prstGeom>
          <a:ln w="0">
            <a:noFill/>
          </a:ln>
        </p:spPr>
      </p:pic>
      <p:pic>
        <p:nvPicPr>
          <p:cNvPr id="73" name="" descr=""/>
          <p:cNvPicPr/>
          <p:nvPr/>
        </p:nvPicPr>
        <p:blipFill>
          <a:blip r:embed="rId2"/>
          <a:stretch/>
        </p:blipFill>
        <p:spPr>
          <a:xfrm>
            <a:off x="4952880" y="3886200"/>
            <a:ext cx="3683160" cy="2762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7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 the IEP goals and objectiv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activity-based learning approach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 intensive scaffold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visual/multimedia present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mnemonic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graphic organizer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 time to respond &amp; organiz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ist with organization task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oncise, step by step direct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English Learners –what to do:</a:t>
            </a:r>
            <a:endParaRPr b="0" lang="en-US" sz="4400" spc="-1" strike="noStrike">
              <a:solidFill>
                <a:srgbClr val="000000"/>
              </a:solidFill>
              <a:latin typeface="Arial"/>
            </a:endParaRPr>
          </a:p>
        </p:txBody>
      </p:sp>
      <p:sp>
        <p:nvSpPr>
          <p:cNvPr id="77" name="PlaceHolder 2"/>
          <p:cNvSpPr>
            <a:spLocks noGrp="1"/>
          </p:cNvSpPr>
          <p:nvPr>
            <p:ph/>
          </p:nvPr>
        </p:nvSpPr>
        <p:spPr>
          <a:xfrm>
            <a:off x="533160" y="1295280"/>
            <a:ext cx="335268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a:t>
            </a:r>
            <a:r>
              <a:rPr b="1" i="1" lang="en-US" sz="1800" spc="-1" strike="noStrike">
                <a:solidFill>
                  <a:srgbClr val="333399"/>
                </a:solidFill>
                <a:latin typeface="Arial"/>
              </a:rPr>
              <a:t>listening-speaking-reading-writing </a:t>
            </a:r>
            <a:r>
              <a:rPr b="1" lang="en-US" sz="1800" spc="-1" strike="noStrike">
                <a:solidFill>
                  <a:srgbClr val="333399"/>
                </a:solidFill>
                <a:latin typeface="Arial"/>
              </a:rPr>
              <a:t>sequence</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Use multisensory approaches</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concrete objects to develop vocabulary</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Use problem-based cooperative learning</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shorter sentences, paraphrase</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heck for understanding frequently</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void idioms</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rovide experiences – refer to them</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conceptual mapping/graphic organizers</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Emphasize vocabulary/key words</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LEA</a:t>
            </a:r>
            <a:endParaRPr b="0" lang="en-US" sz="1800" spc="-1" strike="noStrike">
              <a:solidFill>
                <a:srgbClr val="000000"/>
              </a:solidFill>
              <a:latin typeface="Arial"/>
            </a:endParaRPr>
          </a:p>
        </p:txBody>
      </p:sp>
      <p:pic>
        <p:nvPicPr>
          <p:cNvPr id="78" name="" descr=""/>
          <p:cNvPicPr/>
          <p:nvPr/>
        </p:nvPicPr>
        <p:blipFill>
          <a:blip r:embed="rId1"/>
          <a:stretch/>
        </p:blipFill>
        <p:spPr>
          <a:xfrm>
            <a:off x="4343400" y="1523880"/>
            <a:ext cx="4686480" cy="4114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Gifted and Talented Students</a:t>
            </a:r>
            <a:endParaRPr b="0" lang="en-US" sz="4400" spc="-1" strike="noStrike">
              <a:solidFill>
                <a:srgbClr val="000000"/>
              </a:solidFill>
              <a:latin typeface="Arial"/>
            </a:endParaRPr>
          </a:p>
        </p:txBody>
      </p:sp>
      <p:sp>
        <p:nvSpPr>
          <p:cNvPr id="80" name="PlaceHolder 2"/>
          <p:cNvSpPr>
            <a:spLocks noGrp="1"/>
          </p:cNvSpPr>
          <p:nvPr>
            <p:ph/>
          </p:nvPr>
        </p:nvSpPr>
        <p:spPr>
          <a:xfrm>
            <a:off x="152280" y="1219320"/>
            <a:ext cx="464832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lerate ambiguity and complexity</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ve a longer attention span</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ighly curious/observant</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igh retention level</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nderstand complex direction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aginative</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ceptive to new idea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ested in broad concepts &amp; issue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ecome bored easily</a:t>
            </a:r>
            <a:endParaRPr b="0" lang="en-US" sz="2400" spc="-1" strike="noStrike">
              <a:solidFill>
                <a:srgbClr val="000000"/>
              </a:solidFill>
              <a:latin typeface="Arial"/>
            </a:endParaRPr>
          </a:p>
        </p:txBody>
      </p:sp>
      <p:pic>
        <p:nvPicPr>
          <p:cNvPr id="81" name="" descr=""/>
          <p:cNvPicPr/>
          <p:nvPr/>
        </p:nvPicPr>
        <p:blipFill>
          <a:blip r:embed="rId1"/>
          <a:stretch/>
        </p:blipFill>
        <p:spPr>
          <a:xfrm>
            <a:off x="4343400" y="1981080"/>
            <a:ext cx="4546440" cy="327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83" name="PlaceHolder 2"/>
          <p:cNvSpPr>
            <a:spLocks noGrp="1"/>
          </p:cNvSpPr>
          <p:nvPr>
            <p:ph/>
          </p:nvPr>
        </p:nvSpPr>
        <p:spPr>
          <a:xfrm>
            <a:off x="457200" y="1143000"/>
            <a:ext cx="8229600" cy="55627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open-ended investig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 opportunities to work at the synthesis level</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 students to develop/direct their own projec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students to build a broader knowledge bas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multiple observations &amp; experiment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ive more freedom in managing their learn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tend to their social skill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Time to try it out…</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with your table to modify/adapt the following sample lesson to meet the needs of three different groups of special needs stud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scribe your adaptations/modifications on chart pap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esent your ideas to the clas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mple Lesson</a:t>
            </a:r>
            <a:endParaRPr b="0" lang="en-US" sz="1800" spc="-1" strike="noStrike">
              <a:solidFill>
                <a:srgbClr val="000000"/>
              </a:solidFill>
              <a:latin typeface="Arial"/>
            </a:endParaRPr>
          </a:p>
        </p:txBody>
      </p:sp>
      <p:sp>
        <p:nvSpPr>
          <p:cNvPr id="87"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Earthworm’s Circulatory Syst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Life Scienc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cc0000"/>
                </a:solidFill>
                <a:latin typeface="Arial"/>
              </a:rPr>
              <a:t>Objective:</a:t>
            </a:r>
            <a:r>
              <a:rPr b="0" lang="en-US" sz="1400" spc="-1" strike="noStrike">
                <a:solidFill>
                  <a:srgbClr val="000000"/>
                </a:solidFill>
                <a:latin typeface="Arial"/>
              </a:rPr>
              <a:t> Students will create a 3 dimensional model of the circulatory system of an earthworm depicting the hearts and blood vessels.</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rior knowledge:</a:t>
            </a:r>
            <a:r>
              <a:rPr b="0" lang="en-US" sz="1400" spc="-1" strike="noStrike">
                <a:solidFill>
                  <a:srgbClr val="000000"/>
                </a:solidFill>
                <a:latin typeface="Arial"/>
              </a:rPr>
              <a:t> Knowledge of earthworms, living things, and the anatomy of an earthworm.  </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Lesson Setup:</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udents will remain inside the classroom and have access to paper, pencil, and journal. The teacher will need overhead, chalkboard, or marker board, computer with Internet access and projector to play the videos or display pictures of worms from the Internet. </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ticipatory Se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 the video heart.mov (About.com, 2004).</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k the students what they think the video is show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to students that what they are looking at is an earthworm's heart beating.</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nstructio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hare the following information about the circulatory system of the earthworm with students using charts from the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have two main blood vessels -- a dorsal and a ventral vessel -- which carry blood toward the head or the tail, respectivel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od is moved along the dorsal vessel by waves of contraction in the wall of the vesse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contractible waves are called 'peristalsi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five "hearts," in the earthworm.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hearts force blood through the earthworm's bod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od can flow backward in the earthwor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arthworm's circulatory system is only slightly more efficient than the open system of insects.</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Guided Practice:</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the students create a model which simulates the circulatory system of the earthworm using materials that have been collected from home (cardboard, pipe cleaners, material, sponges, etc. – Suggestion: use the sponges to depict the hearts, the pipe cleaners to depict the blood vessels, the material to depict the “opened” skin and mount on the cardboard) Evaluate their models according to the following criteri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 of model to circulatory syst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ect labeling of the circulatory system struct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Comic Sans MS"/>
              </a:rPr>
              <a:t>How many of these acronyms do you know?</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DEA (2004)  </a:t>
            </a:r>
            <a:r>
              <a:rPr b="0" lang="en-US" sz="2400" spc="-1" strike="noStrike">
                <a:solidFill>
                  <a:srgbClr val="333399"/>
                </a:solidFill>
                <a:latin typeface="Arial"/>
              </a:rPr>
              <a:t>{Free and Appropriate}</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RE               </a:t>
            </a:r>
            <a:r>
              <a:rPr b="0" lang="en-US" sz="2400" spc="-1" strike="noStrike">
                <a:solidFill>
                  <a:srgbClr val="333399"/>
                </a:solidFill>
                <a:latin typeface="Arial"/>
              </a:rPr>
              <a:t>{Who decide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EP  </a:t>
            </a:r>
            <a:r>
              <a:rPr b="0" lang="en-US" sz="2400" spc="-1" strike="noStrike">
                <a:solidFill>
                  <a:srgbClr val="333399"/>
                </a:solidFill>
                <a:latin typeface="Arial"/>
              </a:rPr>
              <a:t>{Teacher’s role? Teacher’s responsibility?}</a:t>
            </a:r>
            <a:endParaRPr b="0" lang="en-US" sz="24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CLB</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rrier-Free</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LD</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ull Inclusion</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streaming</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P, ELL, EL SLL</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A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1"/>
          <a:stretch/>
        </p:blipFill>
        <p:spPr>
          <a:xfrm>
            <a:off x="4114800" y="2971800"/>
            <a:ext cx="3740040" cy="3502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Comic Sans MS"/>
              </a:rPr>
              <a:t>What is a “Disabilit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Who are your </a:t>
            </a:r>
            <a:r>
              <a:rPr b="0" i="1" lang="en-US" sz="4000" spc="-1" strike="noStrike">
                <a:solidFill>
                  <a:srgbClr val="990033"/>
                </a:solidFill>
                <a:latin typeface="Arial"/>
              </a:rPr>
              <a:t>Special Needs</a:t>
            </a:r>
            <a:r>
              <a:rPr b="0" lang="en-US" sz="4000" spc="-1" strike="noStrike">
                <a:solidFill>
                  <a:srgbClr val="990033"/>
                </a:solidFill>
                <a:latin typeface="Arial"/>
              </a:rPr>
              <a:t> student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isually Impai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oor eyesight to complete blindnes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ack first-hand experience with many object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anguage delays – Vocabulary &amp; descriptive capa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oncrete, multi-sensory experienc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ive time to explor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use of descriptive languag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communication with other student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tactile cues (knotted string for measur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alk students through the spac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prepared for spills, scattered materials, etc.</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oral language &amp; a recorder for dire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Hearing Impaired</a:t>
            </a:r>
            <a:endParaRPr b="0" lang="en-US" sz="4400" spc="-1" strike="noStrike">
              <a:solidFill>
                <a:srgbClr val="000000"/>
              </a:solidFill>
              <a:latin typeface="Arial"/>
            </a:endParaRPr>
          </a:p>
        </p:txBody>
      </p:sp>
      <p:sp>
        <p:nvSpPr>
          <p:cNvPr id="55"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y range from slight to total impair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y wear hearing ai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layed language develop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aired speech</a:t>
            </a:r>
            <a:endParaRPr b="0" lang="en-US" sz="3200" spc="-1" strike="noStrike">
              <a:solidFill>
                <a:srgbClr val="000000"/>
              </a:solidFill>
              <a:latin typeface="Arial"/>
            </a:endParaRPr>
          </a:p>
        </p:txBody>
      </p:sp>
      <p:pic>
        <p:nvPicPr>
          <p:cNvPr id="56" name="" descr=""/>
          <p:cNvPicPr/>
          <p:nvPr/>
        </p:nvPicPr>
        <p:blipFill>
          <a:blip r:embed="rId1"/>
          <a:stretch/>
        </p:blipFill>
        <p:spPr>
          <a:xfrm>
            <a:off x="4876920" y="3733920"/>
            <a:ext cx="4162320" cy="2973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58" name="PlaceHolder 2"/>
          <p:cNvSpPr>
            <a:spLocks noGrp="1"/>
          </p:cNvSpPr>
          <p:nvPr>
            <p:ph/>
          </p:nvPr>
        </p:nvSpPr>
        <p:spPr>
          <a:xfrm>
            <a:off x="456840" y="1219320"/>
            <a:ext cx="838188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visible to the stude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gestures and facial cues (don’t exaggerat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oncrete objects (pictures, signs, etc.)</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at the student close to you (or sound sourc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eak with usual volume and speed</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el pronunciations (rather than correct student’s speech)</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 longer periods of wait tim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t student’s attention – direct eye contac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tain good lighting</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alk with student about what they are do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Orthopedically Impaired</a:t>
            </a:r>
            <a:endParaRPr b="0" lang="en-US" sz="4400" spc="-1" strike="noStrike">
              <a:solidFill>
                <a:srgbClr val="000000"/>
              </a:solidFill>
              <a:latin typeface="Arial"/>
            </a:endParaRPr>
          </a:p>
        </p:txBody>
      </p:sp>
      <p:sp>
        <p:nvSpPr>
          <p:cNvPr id="60" name="PlaceHolder 2"/>
          <p:cNvSpPr>
            <a:spLocks noGrp="1"/>
          </p:cNvSpPr>
          <p:nvPr>
            <p:ph/>
          </p:nvPr>
        </p:nvSpPr>
        <p:spPr>
          <a:xfrm>
            <a:off x="838080" y="1295280"/>
            <a:ext cx="7010640" cy="28958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have gross- or fine-motor disabilities</a:t>
            </a: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y in locomotion &amp; balance</a:t>
            </a: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y in coordination &amp; dexterity</a:t>
            </a: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use walkers, wheelchairs, crutches, etc.</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2590920" y="3733920"/>
            <a:ext cx="4495680" cy="294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6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particip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ify activities to avoid frustr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use of limbs to fullest ability</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nd alternate ways to manipulate object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eep traffic lanes clear</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knowledge feelings of frustr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s students to help with moving</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mote confidenc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activities that foster problem solving/cognitive developme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esent materials at comfortable height</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7:56:26Z</dcterms:created>
  <dc:creator>APU</dc:creator>
  <dc:description/>
  <dc:language>en-US</dc:language>
  <cp:lastModifiedBy>APU</cp:lastModifiedBy>
  <dcterms:modified xsi:type="dcterms:W3CDTF">2009-07-20T20:34:59Z</dcterms:modified>
  <cp:revision>4</cp:revision>
  <dc:subject/>
  <dc:title>Who is the Special Education  Student?</dc:title>
</cp:coreProperties>
</file>